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414080" y="1162080"/>
            <a:ext cx="4181400" cy="313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7947C-9CA4-4BED-9E72-98D051FFA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73080" y="318960"/>
            <a:ext cx="2687760" cy="2016360"/>
          </a:xfrm>
          <a:prstGeom prst="rect">
            <a:avLst/>
          </a:prstGeom>
          <a:ln w="0">
            <a:noFill/>
          </a:ln>
        </p:spPr>
      </p:sp>
      <p:sp>
        <p:nvSpPr>
          <p:cNvPr id="141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4DAEAA-E094-411A-84D5-3AFE845A7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25240" y="2535120"/>
            <a:ext cx="5575320" cy="59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43E-62AE-4700-AC0B-D3C0F127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D25-2D44-418D-9DAD-498063B1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777-E1A0-43BE-BE30-75CD5BEF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C3D-A38F-4BB0-AD69-7AB6C253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88B7-2E52-43C7-B407-5BFCFE30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6B34-74E5-4442-BB36-7CCF4335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0315-0108-405F-A8D2-A5F212F5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F958-DF2A-4B94-9F8D-AAE51CC5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68CC-369C-4B9A-86ED-FDD85E9A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38A6-32C2-45AA-BFD2-42926EAE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7972-0EA1-42B8-A0F3-717E9E68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960C-AE90-4A7B-8DFB-342AD97B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2E3A-1BBD-4A8B-8E9D-6A5D8805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78DF-5204-492B-B85B-D056EA89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14D1-BBC0-49C8-998D-1B802275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9BAB-42C2-447E-AA2B-EB06C093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9C3E-72DC-43E7-A9A8-B79B7EB2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11D32-1735-4E23-ADE9-ADC43071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51F72-C99E-49C7-944C-04195F17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ED7DC-632F-471D-A89D-421F8DAC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06029-7289-4ECA-AB70-C150691A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D387C-D9A9-4210-9773-8675E276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6FD-76AB-41E7-9615-F897848A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7F546-F53F-40B1-A210-395401A7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43DDA-72D7-4E2C-AACA-73E45CFE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3AFF2-F9F0-4DA6-88FE-E0D9DAC4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640BB-0C9E-4C06-B6E6-CBF71483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22847-5917-41BD-B1CE-FB7F755F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F679A-F6D1-49CA-8713-C76CD2DB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48EFA-2C5C-49AD-B025-46A2BB17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AFA-4CE4-4622-B558-495E17CD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FBE-C571-4471-9B8C-21B0C64B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737-B290-4ED5-9F8A-64645322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35C-A63A-435A-8565-02A296B2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A7B-4737-408C-973C-626D71D8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27E-9BCD-4C54-8FFE-CDE955F3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F149B-E3E9-4DBE-AF06-08D617C3182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91590-C6C2-47A8-AB13-D42CA1F8C8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1724040"/>
            <a:ext cx="9126360" cy="5133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74D30-48C3-49E4-AE8C-139E3819DB1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5AB69-F6FF-4DB9-A823-A6656BF181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3" descr=""/>
          <p:cNvPicPr/>
          <p:nvPr/>
        </p:nvPicPr>
        <p:blipFill>
          <a:blip r:embed="rId2"/>
          <a:stretch/>
        </p:blipFill>
        <p:spPr>
          <a:xfrm>
            <a:off x="0" y="0"/>
            <a:ext cx="7267680" cy="66672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4" descr="image002"/>
          <p:cNvPicPr/>
          <p:nvPr/>
        </p:nvPicPr>
        <p:blipFill>
          <a:blip r:embed="rId3"/>
          <a:stretch/>
        </p:blipFill>
        <p:spPr>
          <a:xfrm>
            <a:off x="7470720" y="74520"/>
            <a:ext cx="1548000" cy="571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E123C-B1EF-488F-97D3-5C583DD05FE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7502F-A57F-4A00-AB79-284312FB26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TR.EIS@nuclear.energy.go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4149720" y="5361120"/>
            <a:ext cx="298440" cy="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A2A99-F33A-4EFA-A1E6-7D0EE1ECD19F}" type="slidenum">
              <a:rPr b="0" lang="en-US" sz="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452520" y="109440"/>
            <a:ext cx="6939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 Light"/>
              </a:rPr>
              <a:t>Public Comment Information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43000" y="482580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7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TR project and EIS information are available 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tps://www.energy.gov/ne/versatile-test-re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44520" y="952560"/>
            <a:ext cx="4114800" cy="1676520"/>
          </a:xfrm>
          <a:prstGeom prst="rect">
            <a:avLst/>
          </a:prstGeom>
          <a:solidFill>
            <a:srgbClr val="4472c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ubmit comments via emai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VTR.EIS@nuclear.energy.g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5000"/>
              </a:lnSpc>
              <a:spcBef>
                <a:spcPts val="1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a toll-free phon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8-526-68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TextBox 6" descr=""/>
          <p:cNvPicPr/>
          <p:nvPr/>
        </p:nvPicPr>
        <p:blipFill>
          <a:blip r:embed="rId2"/>
          <a:stretch/>
        </p:blipFill>
        <p:spPr>
          <a:xfrm>
            <a:off x="4651200" y="950760"/>
            <a:ext cx="4114800" cy="16765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7"/>
          <p:cNvSpPr/>
          <p:nvPr/>
        </p:nvSpPr>
        <p:spPr>
          <a:xfrm>
            <a:off x="4648320" y="2781360"/>
            <a:ext cx="4114800" cy="1752480"/>
          </a:xfrm>
          <a:prstGeom prst="rect">
            <a:avLst/>
          </a:prstGeom>
          <a:solidFill>
            <a:srgbClr val="4472c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o be added to the EIS notification list, submit a request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VTR.EIS@nuclear.energy.go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344520" y="2781360"/>
            <a:ext cx="4114800" cy="1752480"/>
          </a:xfrm>
          <a:prstGeom prst="rect">
            <a:avLst/>
          </a:prstGeom>
          <a:solidFill>
            <a:srgbClr val="4472c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r Additional Information on DOE’s NEPA Proce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Jason Stu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VTR.EIS@nuclear.energy.go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23:53:20Z</dcterms:created>
  <dc:creator>Edgerton, Patrick</dc:creator>
  <dc:description/>
  <dc:language>en-US</dc:language>
  <cp:lastModifiedBy>Daniel W, Gallagher [US-US]</cp:lastModifiedBy>
  <cp:lastPrinted>2020-11-16T16:30:57Z</cp:lastPrinted>
  <dcterms:modified xsi:type="dcterms:W3CDTF">2021-01-27T19:38:43Z</dcterms:modified>
  <cp:revision>483</cp:revision>
  <dc:subject/>
  <dc:title>Office of Nuclear Energy  FY 2019 Budget Reques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jDocumentLabelXML">
    <vt:lpwstr>&lt;?xml version="1.0" encoding="us-ascii"?&gt;&lt;sisl xmlns:xsi="http://www.w3.org/2001/XMLSchema-instance" xmlns:xsd="http://www.w3.org/2001/XMLSchema" sislVersion="0" policy="c8d5760e-638a-47e8-9e2e-1226c2cb268d" origin="userSelected" xmlns="http://www.boldonj</vt:lpwstr>
  </property>
  <property fmtid="{D5CDD505-2E9C-101B-9397-08002B2CF9AE}" pid="3" name="bjDocumentLabelXML-0">
    <vt:lpwstr>ames.com/2008/01/sie/internal/label"&gt;&lt;element uid="42834bfb-1ec1-4beb-bd64-eb83fb3cb3f3" value="" /&gt;&lt;/sisl&gt;</vt:lpwstr>
  </property>
  <property fmtid="{D5CDD505-2E9C-101B-9397-08002B2CF9AE}" pid="4" name="bjDocumentSecurityLabel">
    <vt:lpwstr>Unrestricted</vt:lpwstr>
  </property>
  <property fmtid="{D5CDD505-2E9C-101B-9397-08002B2CF9AE}" pid="5" name="bjLabelHistoryID">
    <vt:lpwstr>{42A71435-9E7A-4FD8-B51B-9C24E138F502}</vt:lpwstr>
  </property>
  <property fmtid="{D5CDD505-2E9C-101B-9397-08002B2CF9AE}" pid="6" name="bjSaver">
    <vt:lpwstr>EKdTjk6DbYSEFTHXPpCMinPsoeGhYF6u</vt:lpwstr>
  </property>
  <property fmtid="{D5CDD505-2E9C-101B-9397-08002B2CF9AE}" pid="7" name="docIndexRef">
    <vt:lpwstr>a8c78b02-41a3-4205-b336-0b95d28b609d</vt:lpwstr>
  </property>
</Properties>
</file>